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4D55-B05F-4188-A1F3-18E49E31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2E42-F46D-482F-B9C3-825762A3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C1DE-E212-4446-993F-2DC0EE17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F493-1733-464C-865C-CBD518EE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DB04-9361-4273-A34B-3B522F5C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6A4-064F-41F7-B7B5-884397E6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E743-9A6E-4D85-ADC7-A2708284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4E3-8905-4A4C-B2E9-8EA8AE2D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93AC-0D42-46A2-9CCC-1EE8102E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DCFB-CB53-4D60-AC26-B5BD85F4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D9A7-2FE1-4BF2-911B-10F2FA5C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57E5-D7AF-4198-9569-8D5236BC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EA21-C26D-41C0-8C4B-224F4F84C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in%20título-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in%20título-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n%20título-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in%20título-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in%20título-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in%20título-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in%20título-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in%20título-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in%20título-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in%20título-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in%20título-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37:59Z</dcterms:created>
  <dc:creator>Grupo Editorial</dc:creator>
  <dc:description/>
  <dc:language>en-US</dc:language>
  <cp:lastModifiedBy>Grupo Editorial</cp:lastModifiedBy>
  <dcterms:modified xsi:type="dcterms:W3CDTF">2001-09-20T15:46:24Z</dcterms:modified>
  <cp:revision>1</cp:revision>
  <dc:subject/>
  <dc:title>Sin título de diapositiva</dc:title>
</cp:coreProperties>
</file>